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A1376-D923-4E9C-8C46-792CE3FE3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max PID is p=2 GeV, lose x&gt;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1D162-417A-4008-838F-31FC44F19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213-049C-43EE-8128-D7BF3A2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372-DC17-4861-AC62-765FD0B5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E224C-65DF-4992-BC4C-F9E7B82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40B16-B4E4-45D5-BF37-8BAE1F5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3FDE0-A9DB-420E-8821-661EE8B2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8126-2F68-4703-8383-98D45F8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4BFEA-EA0B-4900-BF49-0AD9774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E7763-7268-4993-AF81-0F3D732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35E16-C9B9-4857-8369-809A070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F399-79E2-4F73-92E9-25A874D5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74979-D479-4221-B0E0-2A51736F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93B5C-1E3C-40E2-9C3D-11E3E8F3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976-4CEF-4CD7-8D75-475FC901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37C9E-2233-497F-A3D9-B45D7D86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459FA-6D10-49BD-9AAA-C90CCA1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255E0-6C94-4242-970C-4C6FD67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0B9A6-F5EF-4B27-A88D-F2782C4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BBEA6-95F6-4C4D-BF24-4062FF9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C321F-F80C-4B0D-B124-C399917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BBE2E-BEE1-4494-8422-B3F7BFD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A63D1-566C-4D84-9B0E-A0B91F4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DF36F-15D0-4583-AC4B-1E5C65F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5CC31-FC69-4FF9-8663-CEA4C3D1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0C1-4D5B-4505-899D-D8E242A6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B457F-3415-49DF-A3D0-6FA89B8C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414D3-3750-4887-BDD4-46C3C43E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C3FB-C281-4A66-B496-184B6C96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2E5A4-6ABE-4D41-BFC9-305D0CF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C447-9976-4138-89B8-B41A7F0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1A034-BC49-4C8F-8D3D-48878E8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E9110-DE3C-4E3F-A8B8-8AA18F25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481C5-6BBA-4AEA-BE35-47C7C88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363ED-7965-41E6-8163-A480EC0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95ED7-A7B7-454A-B8A3-F69CE0A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3EB-FC10-404A-8440-EE795ACC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717F6-F354-4A2B-A6C6-3D5C03BD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9B163-7B9B-4674-8A8A-E5A001A3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4463E-CEB0-48CF-A055-06C8E8DE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509A4-6AD5-4E64-A783-3C4E6BE6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BDCBF-1A05-4059-8E80-BD4C9552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DE0A-57FE-4CE7-8F51-64B1C9EC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DA411-86CD-4D4E-8770-C2B7FE88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262F3-2012-4B69-B99D-723AC68E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8D015-31BF-4100-B326-1F08CE7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FDC45-F980-442A-91F8-4708F3F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24A3-CBCD-406A-A6B9-4FF8220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6BC45-F33B-4AB3-A435-3FACE9A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C5096-A234-4AD1-AF49-1313024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B3B32-A975-4C45-BE03-910E2B8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CA10-2141-40A4-809E-F91A8CB4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B75B8-8059-4299-BDB8-EC4B52A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14003-66C3-44CB-A23D-FCFE6D37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AC53D-D17D-43A6-AF36-AE5CC196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5ABF7-7DE2-45FB-9B31-6E916BB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44D45-61D9-408A-87EA-DBD79B4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0BD7C-52BB-43B3-832B-A339703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2A0-E83B-434A-8036-E7D7CB77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84A51-1A19-4B55-B8D4-6C74E382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2B2BD-1F73-42FC-ABCA-DD2CDB3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A7D7D-A396-4D47-9B0F-580ED26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EA7D0-92EC-4D91-A8AD-8F6D2CD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94840-1344-4294-BB32-4E2C876C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17820-5125-47DF-AB00-0E5F93A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CBE8A-85D4-4627-942A-572D9238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F7D4-7452-4384-A8ED-31B9001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E102-B268-4A2E-8342-7B8FD03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1EFD-6EEA-4F62-B3F0-339A1B68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5D6-5C3C-4BBD-9C23-58665B6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088-BDBB-47CD-8336-F101654F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EDA1-EA91-4C65-84C3-33AEF40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95C6-F3F2-47F1-BF4F-6E72E83C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A399-BDF9-4FDC-B8B2-B0ADAF1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763-823E-4454-8498-B1B2059B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AD1-75A7-4654-B4E5-B0FC887D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9798-4301-46EC-96FB-ABA4BAB5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30C6-5539-4AD6-B9EB-E6B601F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8260-8578-4647-B324-97DC07BC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D2BE-D542-426B-AF1D-08B9452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2F81-9E5C-4E9F-A2F0-FBE8AEC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AF0-9F8A-407D-98EB-76DD37C2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564C-EBBF-428B-BC65-1F966F3C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7592-DBA6-45F2-8628-A903013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0FB7-C03A-4C53-8F1C-323ABF3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3426-A906-4AC6-9933-A45174C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DA6E-A35C-465E-8ECB-38074F5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4A64-ED5C-4B89-9FA0-20F20AA4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81E5-87D9-492B-B3E7-C21C4826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8397-F83F-48D0-9A05-ED39046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2A29-B603-4C7B-9D96-975D4873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EC4B-2B54-4B08-9893-F22FD0E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AA1-238A-4C7D-B531-89601CA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5CE10-566A-4659-B6A3-3850ED1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3B53-1FA2-43FE-8962-4C42410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2C5B-DA9E-454E-AEDE-2681BDC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5B32-0B5A-4845-B810-E61B48D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BA32-F8B2-469E-9E26-6E89199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C80F-E9D2-4F22-B07B-CE72801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D983-7609-4C33-9239-DD85B7A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AF69-ECBF-4C45-AEFA-06832D8E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BA33-FC55-4F6D-B19B-451D714C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130B-364B-4EE4-804F-65DF59FD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2B5-EC5F-48DE-93AB-D5C6394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7CF68-5738-449E-9F94-9E79B56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0E89-72FD-4DD7-8D6C-E7E62DB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8D4E-46DE-46A1-89B8-A6A38DD4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4FA57-A7BA-43DE-9FFB-04F4576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25AC-95A8-4E51-9F38-AD2E752A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14039-C568-483A-968C-955C0BF1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9D8D-30DD-48D3-8764-E2CF3A0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B303-477C-4384-986F-CE42498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2163-4174-4B4B-8204-6DF1F76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70CF-E705-4356-9535-707B11A2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433-4EED-47B8-BA32-19E91FE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1EE9-3AE0-4C18-81F3-0B5B7304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8591-893A-4C3F-A227-F572E2EE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B440-9EB9-4BF5-803D-653447DC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8D19-73E3-462A-A45F-FD70520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9913-BE04-4079-93CC-8FF2B0F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1BE4-297B-4009-B9C5-C8C8738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018E-D909-4206-A304-1646DFB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A544D-C805-4757-ADF3-460C312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5D29-C3BA-4463-BC39-C809CFB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1A5F-64A2-4AA2-AF89-F6AA18F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C8B-562A-48EA-8E12-B608ECF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AA9B-F03E-40E7-8E07-331D5ABE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5CCA-951C-44E1-B71E-CC9EC20E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1790-7A9A-4B13-BF54-8093C21B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8D08-EA00-4050-8DA4-43A1A6F7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6B6B-BC2E-435E-8CC8-A743804A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F4985-60BC-4DAD-A779-3572794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6D6F-6A23-4405-A2E9-5E47422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6CDD2-7E5C-4CDD-8857-A5FC91A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1C0E-E70D-48CC-8302-F3B725FA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F64F-6CEB-4675-915B-6B81EE3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9A2-2699-45D3-95BD-94204500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623F6-A96E-4F43-B315-7CA2B77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03F8A-8BCE-4CFA-A035-B11D0A8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B7DE-6B02-463C-A8D3-7F5A0D6F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AD82-20B6-4B6D-B031-C5138C4D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856A-4555-487E-A2DE-FE5ACE6A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16B4-6C64-4CD0-A61A-6EF329E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E63BB-EED4-4514-AEF4-002DA34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C679-9451-44A7-A783-EC277D2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8722-E653-4D49-8DE3-716B090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0673-CFFA-4960-AE4B-3F937BE0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020-E93F-40D1-8FE7-03F1437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F7A7-02AB-40D3-8EA7-6D77AB93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5FE02-0D42-4F68-B86F-C8EC0AF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6AD5-915E-48A9-859F-804251E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1BD0-4C44-4FC3-9F5B-3BCBE67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1C025-5372-4DC9-A241-5EE7629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840D-9E1E-4D01-A03C-3475545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3A1C-28CB-4486-95E1-D2978E61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398A9-EAFC-43DD-A7AB-8C1DB8AB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C9372-7881-4300-969F-F36EB5A8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1C60-FC5D-4289-A987-432740A7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—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6C6BA-7E73-4055-8E46-9E1FB47DD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3B4DF-E70C-45C5-A955-D99B6EFC8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D7F5A-72DD-4F9E-A470-0E3F69C7A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34274-4169-4510-B043-710ED95A7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2DD14-970B-4D73-BAE8-9B83D6E4B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0780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7FE74-3355-4AD2-9B9B-F943B1B61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72E23-B790-42CC-A857-434C531A3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D4510-FF91-4410-AC38-B64565872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D4DC9-05F6-4694-A962-609CE18BE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44F5E-35FD-42CE-A7F1-1D33C7CF3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B6927-1F57-47EB-832D-F3C96BF57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3BE46-75E9-4F08-81CF-47CE7EFA0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E64FA-D4E9-4FF3-A6A4-EDFD2631B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PHENIX PID in the Central Barrel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eds 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ieran Boyle (RBR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234DF-3FB8-4ED4-9E56-BFBAE685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xed Target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Colli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hat momentums should we expect in the central a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fixed target, maximum scattered electron or hadron energy is equal to the incoming electr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ollider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≤ √s/2 and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≤ √s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e, √s is in the partonic coll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55392-9F7B-4B79-BCA3-69AD220DD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5" descr="kin.png"/>
          <p:cNvPicPr/>
          <p:nvPr/>
        </p:nvPicPr>
        <p:blipFill>
          <a:blip r:embed="rId1"/>
          <a:stretch/>
        </p:blipFill>
        <p:spPr>
          <a:xfrm>
            <a:off x="3530520" y="3517920"/>
            <a:ext cx="2057400" cy="604800"/>
          </a:xfrm>
          <a:prstGeom prst="rect">
            <a:avLst/>
          </a:prstGeom>
          <a:ln w="0">
            <a:noFill/>
          </a:ln>
        </p:spPr>
      </p:pic>
      <p:pic>
        <p:nvPicPr>
          <p:cNvPr id="658" name="Table 6" descr=""/>
          <p:cNvPicPr/>
          <p:nvPr/>
        </p:nvPicPr>
        <p:blipFill>
          <a:blip r:embed="rId2"/>
          <a:stretch/>
        </p:blipFill>
        <p:spPr>
          <a:xfrm>
            <a:off x="1481040" y="4175280"/>
            <a:ext cx="6181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matic distribution: 5×10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BD368-5F7C-4D2F-A578-B53678842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5" descr="5x100seelekin.png"/>
          <p:cNvPicPr/>
          <p:nvPr/>
        </p:nvPicPr>
        <p:blipFill>
          <a:blip r:embed="rId1"/>
          <a:stretch/>
        </p:blipFill>
        <p:spPr>
          <a:xfrm>
            <a:off x="276120" y="835200"/>
            <a:ext cx="8612280" cy="4994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pdist5x100.png"/>
          <p:cNvPicPr/>
          <p:nvPr/>
        </p:nvPicPr>
        <p:blipFill>
          <a:blip r:embed="rId2"/>
          <a:stretch/>
        </p:blipFill>
        <p:spPr>
          <a:xfrm>
            <a:off x="2085840" y="961920"/>
            <a:ext cx="4889520" cy="4891320"/>
          </a:xfrm>
          <a:prstGeom prst="rect">
            <a:avLst/>
          </a:prstGeom>
          <a:ln w="0">
            <a:noFill/>
          </a:ln>
        </p:spPr>
      </p:pic>
      <p:sp>
        <p:nvSpPr>
          <p:cNvPr id="665" name="TextBox 7"/>
          <p:cNvSpPr/>
          <p:nvPr/>
        </p:nvSpPr>
        <p:spPr>
          <a:xfrm>
            <a:off x="7881120" y="5684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Se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2" descr="xQ2_ple4.png"/>
          <p:cNvPicPr/>
          <p:nvPr/>
        </p:nvPicPr>
        <p:blipFill>
          <a:blip r:embed="rId1"/>
          <a:stretch/>
        </p:blipFill>
        <p:spPr>
          <a:xfrm>
            <a:off x="1073160" y="2417760"/>
            <a:ext cx="2554200" cy="21193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matic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4537080"/>
            <a:ext cx="82137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omentum increases, peak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 x distribution in central arm moves to larger x and larger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coverage is not greatly extended due to sample size at lower 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3376440" y="6356520"/>
            <a:ext cx="264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394840" y="57578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18321-F4ED-4C26-A9F9-188D3EDD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Group 11"/>
          <p:cNvGrpSpPr/>
          <p:nvPr/>
        </p:nvGrpSpPr>
        <p:grpSpPr>
          <a:xfrm>
            <a:off x="3621240" y="2408400"/>
            <a:ext cx="5049360" cy="2128680"/>
            <a:chOff x="3621240" y="2408400"/>
            <a:chExt cx="5049360" cy="2128680"/>
          </a:xfrm>
        </p:grpSpPr>
        <p:pic>
          <p:nvPicPr>
            <p:cNvPr id="672" name="Picture 13" descr="xQ2_4leple7.png"/>
            <p:cNvPicPr/>
            <p:nvPr/>
          </p:nvPicPr>
          <p:blipFill>
            <a:blip r:embed="rId2"/>
            <a:stretch/>
          </p:blipFill>
          <p:spPr>
            <a:xfrm>
              <a:off x="3621240" y="2417040"/>
              <a:ext cx="2524680" cy="21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4" descr="xQ2_7leple10.png"/>
            <p:cNvPicPr/>
            <p:nvPr/>
          </p:nvPicPr>
          <p:blipFill>
            <a:blip r:embed="rId3"/>
            <a:stretch/>
          </p:blipFill>
          <p:spPr>
            <a:xfrm>
              <a:off x="6145920" y="2408400"/>
              <a:ext cx="2524680" cy="212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TextBox 15"/>
          <p:cNvSpPr/>
          <p:nvPr/>
        </p:nvSpPr>
        <p:spPr>
          <a:xfrm>
            <a:off x="1441440" y="278136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4054320" y="2781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&lt;p&lt;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7"/>
          <p:cNvSpPr/>
          <p:nvPr/>
        </p:nvSpPr>
        <p:spPr>
          <a:xfrm>
            <a:off x="6615000" y="27813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&lt;p&lt;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Group 18"/>
          <p:cNvGrpSpPr/>
          <p:nvPr/>
        </p:nvGrpSpPr>
        <p:grpSpPr>
          <a:xfrm>
            <a:off x="1106640" y="923760"/>
            <a:ext cx="7670520" cy="1670040"/>
            <a:chOff x="1106640" y="923760"/>
            <a:chExt cx="7670520" cy="1670040"/>
          </a:xfrm>
        </p:grpSpPr>
        <p:pic>
          <p:nvPicPr>
            <p:cNvPr id="678" name="Picture 7" descr="eta_7leple10.png"/>
            <p:cNvPicPr/>
            <p:nvPr/>
          </p:nvPicPr>
          <p:blipFill>
            <a:blip r:embed="rId4"/>
            <a:stretch/>
          </p:blipFill>
          <p:spPr>
            <a:xfrm>
              <a:off x="622152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6" descr="eta_4leple7.png"/>
            <p:cNvPicPr/>
            <p:nvPr/>
          </p:nvPicPr>
          <p:blipFill>
            <a:blip r:embed="rId5"/>
            <a:stretch/>
          </p:blipFill>
          <p:spPr>
            <a:xfrm>
              <a:off x="366228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5" descr="eta_ple4.png"/>
            <p:cNvPicPr/>
            <p:nvPr/>
          </p:nvPicPr>
          <p:blipFill>
            <a:blip r:embed="rId6"/>
            <a:stretch/>
          </p:blipFill>
          <p:spPr>
            <a:xfrm>
              <a:off x="110664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Box 8"/>
            <p:cNvSpPr/>
            <p:nvPr/>
          </p:nvSpPr>
          <p:spPr>
            <a:xfrm>
              <a:off x="1622520" y="12528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&lt;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TextBox 9"/>
            <p:cNvSpPr/>
            <p:nvPr/>
          </p:nvSpPr>
          <p:spPr>
            <a:xfrm>
              <a:off x="4286520" y="125280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&lt;p&lt;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0"/>
            <p:cNvSpPr/>
            <p:nvPr/>
          </p:nvSpPr>
          <p:spPr>
            <a:xfrm>
              <a:off x="6672240" y="12528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&lt;p&lt;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TextBox 19"/>
          <p:cNvSpPr/>
          <p:nvPr/>
        </p:nvSpPr>
        <p:spPr>
          <a:xfrm>
            <a:off x="301320" y="3335400"/>
            <a:ext cx="8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s. 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20"/>
          <p:cNvSpPr/>
          <p:nvPr/>
        </p:nvSpPr>
        <p:spPr>
          <a:xfrm>
            <a:off x="460080" y="158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21"/>
          <p:cNvSpPr/>
          <p:nvPr/>
        </p:nvSpPr>
        <p:spPr>
          <a:xfrm>
            <a:off x="406800" y="9032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act of p&lt;4 Limit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615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 = P•p/P•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cut on 0.85&gt;z&gt;0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e some phase space at high x and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no PID above 4 G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927BE-D680-492F-B962-1C66F9B43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5" descr="x_Q2_z_space_5_100.png"/>
          <p:cNvPicPr/>
          <p:nvPr/>
        </p:nvPicPr>
        <p:blipFill>
          <a:blip r:embed="rId1"/>
          <a:stretch/>
        </p:blipFill>
        <p:spPr>
          <a:xfrm>
            <a:off x="725400" y="2095560"/>
            <a:ext cx="3840120" cy="3654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x_Q2_z_space_10_100.png"/>
          <p:cNvPicPr/>
          <p:nvPr/>
        </p:nvPicPr>
        <p:blipFill>
          <a:blip r:embed="rId2"/>
          <a:stretch/>
        </p:blipFill>
        <p:spPr>
          <a:xfrm>
            <a:off x="4632480" y="2095560"/>
            <a:ext cx="3841560" cy="36543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7"/>
          <p:cNvSpPr/>
          <p:nvPr/>
        </p:nvSpPr>
        <p:spPr>
          <a:xfrm>
            <a:off x="1262160" y="3678120"/>
            <a:ext cx="130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ssible 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"/>
          <p:cNvSpPr/>
          <p:nvPr/>
        </p:nvSpPr>
        <p:spPr>
          <a:xfrm>
            <a:off x="725400" y="2025720"/>
            <a:ext cx="1300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4656240" y="2025720"/>
            <a:ext cx="136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2"/>
          <p:cNvSpPr/>
          <p:nvPr/>
        </p:nvSpPr>
        <p:spPr>
          <a:xfrm>
            <a:off x="6411960" y="26337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 G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2498760" y="27860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 G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6"/>
          <p:cNvSpPr/>
          <p:nvPr/>
        </p:nvSpPr>
        <p:spPr>
          <a:xfrm>
            <a:off x="1146240" y="5664240"/>
            <a:ext cx="683892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 to 4 GeV is reasonable range for 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ID DETECTOR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00816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F4FD1-288B-4174-9100-F352650B7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ID needs and o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 PID in central region as it extends x and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ch, important for both TMDs and helicity dis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D is necessary to actually get access to quark info, which we want for both helicity sea quark separation and TM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like to have pi-K separation out to 4-5Ge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posibi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mity Focused RICH (AL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C (BA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DBB9D-2D33-4AF2-BB5F-421AEEE9A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ximity Focused RI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20480" y="1163160"/>
            <a:ext cx="47703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 is to have a thin radiator, say liquid C6F14, followed by expansion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 to use HBD like readout to limit readou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hings give pi-K sepa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x of ref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sion d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ing possibilities of other radiators, but cerenkov light needs to be ~100-200 nm for CsI rea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s ongoing for how to push this PID to higher moment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36AD9-98C8-4FBB-A27D-E8D706A54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4" descr="alice_hmpid_principle.gif"/>
          <p:cNvPicPr/>
          <p:nvPr/>
        </p:nvPicPr>
        <p:blipFill>
          <a:blip r:embed="rId1"/>
          <a:stretch/>
        </p:blipFill>
        <p:spPr>
          <a:xfrm>
            <a:off x="5811840" y="1163520"/>
            <a:ext cx="2874960" cy="2097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ALICEProxRichPID.png"/>
          <p:cNvPicPr/>
          <p:nvPr/>
        </p:nvPicPr>
        <p:blipFill>
          <a:blip r:embed="rId2"/>
          <a:stretch/>
        </p:blipFill>
        <p:spPr>
          <a:xfrm>
            <a:off x="5443560" y="3730680"/>
            <a:ext cx="3243240" cy="2165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STARHMPID.png"/>
          <p:cNvPicPr/>
          <p:nvPr/>
        </p:nvPicPr>
        <p:blipFill>
          <a:blip r:embed="rId3"/>
          <a:stretch/>
        </p:blipFill>
        <p:spPr>
          <a:xfrm>
            <a:off x="5559480" y="4194000"/>
            <a:ext cx="3127320" cy="1584360"/>
          </a:xfrm>
          <a:prstGeom prst="rect">
            <a:avLst/>
          </a:prstGeom>
          <a:ln w="0">
            <a:noFill/>
          </a:ln>
        </p:spPr>
      </p:pic>
      <p:sp>
        <p:nvSpPr>
          <p:cNvPr id="713" name="Footer Placeholder 7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Id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6840" y="958320"/>
            <a:ext cx="4133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Quartz radiator.  Signal sent to 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read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lly, detector is ~10c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renkov light totally internally reflected in z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out at end of b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ring size on readout, along with time of flight of photons to get 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32BD9-BCEF-4E0A-8CDD-B3AFB35F5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8" descr="belletop.png"/>
          <p:cNvPicPr/>
          <p:nvPr/>
        </p:nvPicPr>
        <p:blipFill>
          <a:blip r:embed="rId1"/>
          <a:stretch/>
        </p:blipFill>
        <p:spPr>
          <a:xfrm>
            <a:off x="5372280" y="1193760"/>
            <a:ext cx="3305160" cy="1227240"/>
          </a:xfrm>
          <a:prstGeom prst="rect">
            <a:avLst/>
          </a:prstGeom>
          <a:ln w="0">
            <a:noFill/>
          </a:ln>
        </p:spPr>
      </p:pic>
      <p:cxnSp>
        <p:nvCxnSpPr>
          <p:cNvPr id="718" name="Straight Arrow Connector 16"/>
          <p:cNvCxnSpPr/>
          <p:nvPr/>
        </p:nvCxnSpPr>
        <p:spPr>
          <a:xfrm flipV="1">
            <a:off x="5033520" y="2420280"/>
            <a:ext cx="33058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9" name="TextBox 19"/>
          <p:cNvSpPr/>
          <p:nvPr/>
        </p:nvSpPr>
        <p:spPr>
          <a:xfrm>
            <a:off x="8065440" y="242100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0" name="Straight Arrow Connector 20"/>
          <p:cNvCxnSpPr/>
          <p:nvPr/>
        </p:nvCxnSpPr>
        <p:spPr>
          <a:xfrm flipV="1">
            <a:off x="5043240" y="1193040"/>
            <a:ext cx="1080" cy="122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1" name="TextBox 21"/>
          <p:cNvSpPr/>
          <p:nvPr/>
        </p:nvSpPr>
        <p:spPr>
          <a:xfrm>
            <a:off x="5125320" y="10969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24" descr="DIRCbabarPiccrosssec.png"/>
          <p:cNvPicPr/>
          <p:nvPr/>
        </p:nvPicPr>
        <p:blipFill>
          <a:blip r:embed="rId2"/>
          <a:stretch/>
        </p:blipFill>
        <p:spPr>
          <a:xfrm>
            <a:off x="4394160" y="2987640"/>
            <a:ext cx="4318200" cy="31258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5"/>
          <p:cNvSpPr/>
          <p:nvPr/>
        </p:nvSpPr>
        <p:spPr>
          <a:xfrm>
            <a:off x="5522400" y="60102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adial space is s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4" name="Straight Arrow Connector 26"/>
          <p:cNvCxnSpPr/>
          <p:nvPr/>
        </p:nvCxnSpPr>
        <p:spPr>
          <a:xfrm flipV="1">
            <a:off x="8677080" y="3201120"/>
            <a:ext cx="46440" cy="289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5" name="TextBox 27"/>
          <p:cNvSpPr/>
          <p:nvPr/>
        </p:nvSpPr>
        <p:spPr>
          <a:xfrm>
            <a:off x="8811720" y="59770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29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Readout Iss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6840" y="958320"/>
            <a:ext cx="4133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Quartz radiator.  Signal sent to 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read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lly, detector is ~10c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BABAR, readout was huge fan out of PMTs at 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work in 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Woody investigating smaller readout with Si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93453-1077-4C78-98AE-02BEC705A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9" descr="DIRCbabarPiccrosssec.png"/>
          <p:cNvPicPr/>
          <p:nvPr/>
        </p:nvPicPr>
        <p:blipFill>
          <a:blip r:embed="rId1"/>
          <a:stretch/>
        </p:blipFill>
        <p:spPr>
          <a:xfrm>
            <a:off x="4394160" y="2987640"/>
            <a:ext cx="4318200" cy="31258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10"/>
          <p:cNvSpPr/>
          <p:nvPr/>
        </p:nvSpPr>
        <p:spPr>
          <a:xfrm>
            <a:off x="5522400" y="60102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adial space is s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2" name="Straight Arrow Connector 13"/>
          <p:cNvCxnSpPr/>
          <p:nvPr/>
        </p:nvCxnSpPr>
        <p:spPr>
          <a:xfrm flipV="1">
            <a:off x="8677080" y="3201120"/>
            <a:ext cx="46440" cy="289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3" name="TextBox 14"/>
          <p:cNvSpPr/>
          <p:nvPr/>
        </p:nvSpPr>
        <p:spPr>
          <a:xfrm>
            <a:off x="8811720" y="59770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15" descr="DIRCbabarPic.png"/>
          <p:cNvPicPr/>
          <p:nvPr/>
        </p:nvPicPr>
        <p:blipFill>
          <a:blip r:embed="rId2"/>
          <a:stretch/>
        </p:blipFill>
        <p:spPr>
          <a:xfrm>
            <a:off x="4289400" y="958680"/>
            <a:ext cx="2455920" cy="17812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DIRCbabarPic3d.png"/>
          <p:cNvPicPr/>
          <p:nvPr/>
        </p:nvPicPr>
        <p:blipFill>
          <a:blip r:embed="rId3"/>
          <a:stretch/>
        </p:blipFill>
        <p:spPr>
          <a:xfrm>
            <a:off x="6745320" y="958680"/>
            <a:ext cx="2063880" cy="1865520"/>
          </a:xfrm>
          <a:prstGeom prst="rect">
            <a:avLst/>
          </a:prstGeom>
          <a:ln w="0">
            <a:noFill/>
          </a:ln>
        </p:spPr>
      </p:pic>
      <p:sp>
        <p:nvSpPr>
          <p:cNvPr id="73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PID ran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AR focused on PID in 1-5 GeV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starts dropping at 2.5 G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great above 3.5 G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able to extend with fine resolution rea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3" descr="DIRCbabarPicPID.png"/>
          <p:cNvPicPr/>
          <p:nvPr/>
        </p:nvPicPr>
        <p:blipFill>
          <a:blip r:embed="rId1"/>
          <a:stretch/>
        </p:blipFill>
        <p:spPr>
          <a:xfrm>
            <a:off x="204840" y="3405240"/>
            <a:ext cx="2546280" cy="2475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" descr="DIRCbabarPicPID2.png"/>
          <p:cNvPicPr/>
          <p:nvPr/>
        </p:nvPicPr>
        <p:blipFill>
          <a:blip r:embed="rId2"/>
          <a:stretch/>
        </p:blipFill>
        <p:spPr>
          <a:xfrm>
            <a:off x="2751120" y="3405240"/>
            <a:ext cx="2892600" cy="2951280"/>
          </a:xfrm>
          <a:prstGeom prst="rect">
            <a:avLst/>
          </a:prstGeom>
          <a:ln w="0">
            <a:noFill/>
          </a:ln>
        </p:spPr>
      </p:pic>
      <p:sp>
        <p:nvSpPr>
          <p:cNvPr id="74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671D6-6E8D-4F17-9947-E5CF44B0A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11" descr="DIRCbabarPicPID3.png"/>
          <p:cNvPicPr/>
          <p:nvPr/>
        </p:nvPicPr>
        <p:blipFill>
          <a:blip r:embed="rId3"/>
          <a:stretch/>
        </p:blipFill>
        <p:spPr>
          <a:xfrm>
            <a:off x="5776920" y="3086280"/>
            <a:ext cx="2911320" cy="3270240"/>
          </a:xfrm>
          <a:prstGeom prst="rect">
            <a:avLst/>
          </a:prstGeom>
          <a:ln w="0">
            <a:noFill/>
          </a:ln>
        </p:spPr>
      </p:pic>
      <p:sp>
        <p:nvSpPr>
          <p:cNvPr id="743" name="Footer Placeholder 7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ysics in e+p with identified final state hadr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vor separated helicity structure of the sea qua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vor separated Transverse Momentum Dependent Distrib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nematic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+p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 5-10 GeV electron beam (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50-250 Ge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D options in the central barre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pi-K-p s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RC, RICH, Proximity Focused RI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nematic coverage, Spatial extent (for barrel radius ques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935B7-6FC2-430D-9BFE-75423C93F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9428040" y="1689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9454680" y="33908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9501840" y="4975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, WHAT’S THE RADIU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7FF48-FD26-4345-99AC-88712BC48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32640" y="961560"/>
            <a:ext cx="29541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ssumed magnet at 1.2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ck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~3 inner layers also for heavy flavor phys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PC for pattern recogni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ip at 60cm for good phi poi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0-40cm in 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ected to be proximity RI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CAL and preshower inside magne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~20 c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12BFB-5D13-4011-B620-C30C23A43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5" descr="ephenixmockup.png"/>
          <p:cNvPicPr/>
          <p:nvPr/>
        </p:nvPicPr>
        <p:blipFill>
          <a:blip r:embed="rId1"/>
          <a:stretch/>
        </p:blipFill>
        <p:spPr>
          <a:xfrm>
            <a:off x="328680" y="1695600"/>
            <a:ext cx="540396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me modification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425760" y="961560"/>
            <a:ext cx="52610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d magnet at 1.2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~3 inner layers also for heavy flavor physi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bfbfbf"/>
                </a:solidFill>
                <a:latin typeface="Calibri"/>
              </a:rPr>
              <a:t>TPC for pattern recogn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clear needed in e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e46c0a"/>
                </a:solidFill>
                <a:latin typeface="Calibri"/>
              </a:rPr>
              <a:t>Strip at 60cm for good phi point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ed to study if layer can be at smaller radius, folding in Sasha’s and Tom’s stu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Calibri"/>
              </a:rPr>
              <a:t>30-40cm in r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Calibri"/>
              </a:rPr>
              <a:t>Expected to be proximity RI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RC: 10 c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CAL and preshower inside magn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bfbfbf"/>
                </a:solidFill>
                <a:latin typeface="Calibri"/>
              </a:rPr>
              <a:t>~20 cm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0cm from C. Woody slid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tudy ongoing to see effect on resolution of magnet inside EM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➜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e 30-40cm, so 120c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c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26CC3-008A-4C9A-9EF8-8F21A1AF5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5" descr="ephenixmockup.png"/>
          <p:cNvPicPr/>
          <p:nvPr/>
        </p:nvPicPr>
        <p:blipFill>
          <a:blip r:embed="rId1"/>
          <a:stretch/>
        </p:blipFill>
        <p:spPr>
          <a:xfrm>
            <a:off x="142920" y="1066680"/>
            <a:ext cx="3468600" cy="2540160"/>
          </a:xfrm>
          <a:prstGeom prst="rect">
            <a:avLst/>
          </a:prstGeom>
          <a:ln w="0">
            <a:noFill/>
          </a:ln>
        </p:spPr>
      </p:pic>
      <p:sp>
        <p:nvSpPr>
          <p:cNvPr id="758" name="Oval 6"/>
          <p:cNvSpPr/>
          <p:nvPr/>
        </p:nvSpPr>
        <p:spPr>
          <a:xfrm>
            <a:off x="1025640" y="4078440"/>
            <a:ext cx="1774800" cy="17874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9" name="Straight Arrow Connector 8"/>
          <p:cNvCxnSpPr>
            <a:endCxn id="758" idx="6"/>
          </p:cNvCxnSpPr>
          <p:nvPr/>
        </p:nvCxnSpPr>
        <p:spPr>
          <a:xfrm>
            <a:off x="1911240" y="4971600"/>
            <a:ext cx="8899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0" name="TextBox 11"/>
          <p:cNvSpPr/>
          <p:nvPr/>
        </p:nvSpPr>
        <p:spPr>
          <a:xfrm>
            <a:off x="1821960" y="4529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8053560" y="67215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16AAA-CCDD-4172-8AE8-F463CB888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39"/>
          <p:cNvSpPr/>
          <p:nvPr/>
        </p:nvSpPr>
        <p:spPr>
          <a:xfrm>
            <a:off x="2104920" y="1344600"/>
            <a:ext cx="4656240" cy="465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41"/>
          <p:cNvSpPr/>
          <p:nvPr/>
        </p:nvSpPr>
        <p:spPr>
          <a:xfrm>
            <a:off x="2525760" y="1751040"/>
            <a:ext cx="3814560" cy="381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42"/>
          <p:cNvSpPr/>
          <p:nvPr/>
        </p:nvSpPr>
        <p:spPr>
          <a:xfrm>
            <a:off x="2936880" y="2190600"/>
            <a:ext cx="2963880" cy="2963880"/>
          </a:xfrm>
          <a:prstGeom prst="ellipse">
            <a:avLst/>
          </a:prstGeom>
          <a:solidFill>
            <a:srgbClr val="8eb4e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Dodecagon 43"/>
          <p:cNvSpPr/>
          <p:nvPr/>
        </p:nvSpPr>
        <p:spPr>
          <a:xfrm rot="20688000">
            <a:off x="3325320" y="2550600"/>
            <a:ext cx="2190960" cy="2233800"/>
          </a:xfrm>
          <a:custGeom>
            <a:avLst/>
            <a:gdLst/>
            <a:ahLst/>
            <a:rect l="l" t="t" r="r" b="b"/>
            <a:pathLst>
              <a:path w="2190598" h="2233706">
                <a:moveTo>
                  <a:pt x="0" y="817578"/>
                </a:moveTo>
                <a:lnTo>
                  <a:pt x="293500" y="299275"/>
                </a:lnTo>
                <a:lnTo>
                  <a:pt x="801799" y="0"/>
                </a:lnTo>
                <a:lnTo>
                  <a:pt x="1388799" y="0"/>
                </a:lnTo>
                <a:lnTo>
                  <a:pt x="1897098" y="299275"/>
                </a:lnTo>
                <a:lnTo>
                  <a:pt x="2190598" y="817578"/>
                </a:lnTo>
                <a:lnTo>
                  <a:pt x="2190598" y="1416128"/>
                </a:lnTo>
                <a:lnTo>
                  <a:pt x="1897098" y="1934431"/>
                </a:lnTo>
                <a:lnTo>
                  <a:pt x="1388799" y="2233706"/>
                </a:lnTo>
                <a:lnTo>
                  <a:pt x="801799" y="2233706"/>
                </a:lnTo>
                <a:lnTo>
                  <a:pt x="293500" y="1934431"/>
                </a:lnTo>
                <a:lnTo>
                  <a:pt x="0" y="1416128"/>
                </a:lnTo>
                <a:lnTo>
                  <a:pt x="0" y="81757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Dodecagon 48"/>
          <p:cNvSpPr/>
          <p:nvPr/>
        </p:nvSpPr>
        <p:spPr>
          <a:xfrm>
            <a:off x="4152960" y="3397320"/>
            <a:ext cx="538200" cy="538200"/>
          </a:xfrm>
          <a:custGeom>
            <a:avLst/>
            <a:gdLst/>
            <a:ahLst/>
            <a:rect l="l" t="t" r="r" b="b"/>
            <a:pathLst>
              <a:path w="536919" h="536879">
                <a:moveTo>
                  <a:pt x="0" y="196508"/>
                </a:moveTo>
                <a:lnTo>
                  <a:pt x="71937" y="71932"/>
                </a:lnTo>
                <a:lnTo>
                  <a:pt x="196522" y="0"/>
                </a:lnTo>
                <a:lnTo>
                  <a:pt x="340397" y="0"/>
                </a:lnTo>
                <a:lnTo>
                  <a:pt x="464982" y="71932"/>
                </a:lnTo>
                <a:lnTo>
                  <a:pt x="536919" y="196508"/>
                </a:lnTo>
                <a:lnTo>
                  <a:pt x="536919" y="340371"/>
                </a:lnTo>
                <a:lnTo>
                  <a:pt x="464982" y="464947"/>
                </a:lnTo>
                <a:lnTo>
                  <a:pt x="340397" y="536879"/>
                </a:lnTo>
                <a:lnTo>
                  <a:pt x="196522" y="536879"/>
                </a:lnTo>
                <a:lnTo>
                  <a:pt x="71937" y="464947"/>
                </a:lnTo>
                <a:lnTo>
                  <a:pt x="0" y="340371"/>
                </a:lnTo>
                <a:lnTo>
                  <a:pt x="0" y="19650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Dodecagon 50"/>
          <p:cNvSpPr/>
          <p:nvPr/>
        </p:nvSpPr>
        <p:spPr>
          <a:xfrm>
            <a:off x="4246560" y="3489480"/>
            <a:ext cx="353880" cy="353880"/>
          </a:xfrm>
          <a:custGeom>
            <a:avLst/>
            <a:gdLst/>
            <a:ahLst/>
            <a:rect l="l" t="t" r="r" b="b"/>
            <a:pathLst>
              <a:path w="354367" h="354340">
                <a:moveTo>
                  <a:pt x="0" y="129695"/>
                </a:moveTo>
                <a:lnTo>
                  <a:pt x="47479" y="47475"/>
                </a:lnTo>
                <a:lnTo>
                  <a:pt x="129705" y="0"/>
                </a:lnTo>
                <a:lnTo>
                  <a:pt x="224662" y="0"/>
                </a:lnTo>
                <a:lnTo>
                  <a:pt x="306888" y="47475"/>
                </a:lnTo>
                <a:lnTo>
                  <a:pt x="354367" y="129695"/>
                </a:lnTo>
                <a:lnTo>
                  <a:pt x="354367" y="224645"/>
                </a:lnTo>
                <a:lnTo>
                  <a:pt x="306888" y="306865"/>
                </a:lnTo>
                <a:lnTo>
                  <a:pt x="224662" y="354340"/>
                </a:lnTo>
                <a:lnTo>
                  <a:pt x="129705" y="354340"/>
                </a:lnTo>
                <a:lnTo>
                  <a:pt x="47479" y="306865"/>
                </a:lnTo>
                <a:lnTo>
                  <a:pt x="0" y="224645"/>
                </a:lnTo>
                <a:lnTo>
                  <a:pt x="0" y="129695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Dodecagon 51"/>
          <p:cNvSpPr/>
          <p:nvPr/>
        </p:nvSpPr>
        <p:spPr>
          <a:xfrm>
            <a:off x="4330800" y="3576600"/>
            <a:ext cx="177840" cy="176400"/>
          </a:xfrm>
          <a:custGeom>
            <a:avLst/>
            <a:gdLst/>
            <a:ahLst/>
            <a:rect l="l" t="t" r="r" b="b"/>
            <a:pathLst>
              <a:path w="177180" h="177170">
                <a:moveTo>
                  <a:pt x="0" y="64848"/>
                </a:moveTo>
                <a:lnTo>
                  <a:pt x="23739" y="23737"/>
                </a:lnTo>
                <a:lnTo>
                  <a:pt x="64851" y="0"/>
                </a:lnTo>
                <a:lnTo>
                  <a:pt x="112329" y="0"/>
                </a:lnTo>
                <a:lnTo>
                  <a:pt x="153441" y="23737"/>
                </a:lnTo>
                <a:lnTo>
                  <a:pt x="177180" y="64848"/>
                </a:lnTo>
                <a:lnTo>
                  <a:pt x="177180" y="112322"/>
                </a:lnTo>
                <a:lnTo>
                  <a:pt x="153441" y="153433"/>
                </a:lnTo>
                <a:lnTo>
                  <a:pt x="112329" y="177170"/>
                </a:lnTo>
                <a:lnTo>
                  <a:pt x="64851" y="177170"/>
                </a:lnTo>
                <a:lnTo>
                  <a:pt x="23739" y="153433"/>
                </a:lnTo>
                <a:lnTo>
                  <a:pt x="0" y="112322"/>
                </a:lnTo>
                <a:lnTo>
                  <a:pt x="0" y="6484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53"/>
          <p:cNvSpPr/>
          <p:nvPr/>
        </p:nvSpPr>
        <p:spPr>
          <a:xfrm>
            <a:off x="7514280" y="1230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[cm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55"/>
          <p:cNvSpPr/>
          <p:nvPr/>
        </p:nvSpPr>
        <p:spPr>
          <a:xfrm flipH="1">
            <a:off x="4431960" y="367200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59"/>
          <p:cNvSpPr/>
          <p:nvPr/>
        </p:nvSpPr>
        <p:spPr>
          <a:xfrm flipH="1">
            <a:off x="4431960" y="339264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60"/>
          <p:cNvSpPr/>
          <p:nvPr/>
        </p:nvSpPr>
        <p:spPr>
          <a:xfrm flipH="1">
            <a:off x="4431960" y="249228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61"/>
          <p:cNvSpPr/>
          <p:nvPr/>
        </p:nvSpPr>
        <p:spPr>
          <a:xfrm flipH="1">
            <a:off x="4431960" y="221292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traight Connector 62"/>
          <p:cNvSpPr/>
          <p:nvPr/>
        </p:nvSpPr>
        <p:spPr>
          <a:xfrm flipH="1">
            <a:off x="4446360" y="1736640"/>
            <a:ext cx="336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63"/>
          <p:cNvSpPr/>
          <p:nvPr/>
        </p:nvSpPr>
        <p:spPr>
          <a:xfrm>
            <a:off x="7721640" y="3178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64"/>
          <p:cNvSpPr/>
          <p:nvPr/>
        </p:nvSpPr>
        <p:spPr>
          <a:xfrm>
            <a:off x="7720920" y="3473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65"/>
          <p:cNvSpPr/>
          <p:nvPr/>
        </p:nvSpPr>
        <p:spPr>
          <a:xfrm>
            <a:off x="7733520" y="2284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66"/>
          <p:cNvSpPr/>
          <p:nvPr/>
        </p:nvSpPr>
        <p:spPr>
          <a:xfrm>
            <a:off x="7733520" y="201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67"/>
          <p:cNvSpPr/>
          <p:nvPr/>
        </p:nvSpPr>
        <p:spPr>
          <a:xfrm>
            <a:off x="7750440" y="1517760"/>
            <a:ext cx="10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(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traight Connector 68"/>
          <p:cNvSpPr/>
          <p:nvPr/>
        </p:nvSpPr>
        <p:spPr>
          <a:xfrm flipH="1">
            <a:off x="4431960" y="108756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69"/>
          <p:cNvSpPr/>
          <p:nvPr/>
        </p:nvSpPr>
        <p:spPr>
          <a:xfrm>
            <a:off x="1102320" y="1370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Calibri"/>
              </a:rPr>
              <a:t>EM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Curved Connector 70"/>
          <p:cNvCxnSpPr/>
          <p:nvPr/>
        </p:nvCxnSpPr>
        <p:spPr>
          <a:xfrm>
            <a:off x="2043000" y="1623600"/>
            <a:ext cx="1463040" cy="7405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5" name="TextBox 71"/>
          <p:cNvSpPr/>
          <p:nvPr/>
        </p:nvSpPr>
        <p:spPr>
          <a:xfrm>
            <a:off x="1194840" y="2130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6" name="Curved Connector 72"/>
          <p:cNvCxnSpPr/>
          <p:nvPr/>
        </p:nvCxnSpPr>
        <p:spPr>
          <a:xfrm>
            <a:off x="1793520" y="2386080"/>
            <a:ext cx="1462680" cy="7387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7" name="TextBox 73"/>
          <p:cNvSpPr/>
          <p:nvPr/>
        </p:nvSpPr>
        <p:spPr>
          <a:xfrm>
            <a:off x="1269360" y="5288040"/>
            <a:ext cx="11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I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8" name="Curved Connector 74"/>
          <p:cNvCxnSpPr/>
          <p:nvPr/>
        </p:nvCxnSpPr>
        <p:spPr>
          <a:xfrm flipV="1">
            <a:off x="2070000" y="3830040"/>
            <a:ext cx="2083680" cy="18658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9" name="Curved Connector 75"/>
          <p:cNvCxnSpPr/>
          <p:nvPr/>
        </p:nvCxnSpPr>
        <p:spPr>
          <a:xfrm rot="10800000">
            <a:off x="5476320" y="3982320"/>
            <a:ext cx="1888200" cy="550080"/>
          </a:xfrm>
          <a:prstGeom prst="curvedConnector5">
            <a:avLst>
              <a:gd name="adj1" fmla="val 50000"/>
              <a:gd name="adj2" fmla="val 49967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0" name="TextBox 76"/>
          <p:cNvSpPr/>
          <p:nvPr/>
        </p:nvSpPr>
        <p:spPr>
          <a:xfrm>
            <a:off x="7347960" y="40543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u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1" name="Curved Connector 77"/>
          <p:cNvCxnSpPr/>
          <p:nvPr/>
        </p:nvCxnSpPr>
        <p:spPr>
          <a:xfrm rot="10800000">
            <a:off x="4664880" y="4257720"/>
            <a:ext cx="2348640" cy="1311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2" name="TextBox 78"/>
          <p:cNvSpPr/>
          <p:nvPr/>
        </p:nvSpPr>
        <p:spPr>
          <a:xfrm>
            <a:off x="6938640" y="497052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79"/>
          <p:cNvSpPr/>
          <p:nvPr/>
        </p:nvSpPr>
        <p:spPr>
          <a:xfrm>
            <a:off x="7733160" y="8794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(old i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Curved Connector 80"/>
          <p:cNvCxnSpPr/>
          <p:nvPr/>
        </p:nvCxnSpPr>
        <p:spPr>
          <a:xfrm>
            <a:off x="2133360" y="1074240"/>
            <a:ext cx="1462680" cy="73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5" name="TextBox 81"/>
          <p:cNvSpPr/>
          <p:nvPr/>
        </p:nvSpPr>
        <p:spPr>
          <a:xfrm>
            <a:off x="972720" y="843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82"/>
          <p:cNvSpPr/>
          <p:nvPr/>
        </p:nvSpPr>
        <p:spPr>
          <a:xfrm>
            <a:off x="1851120" y="1087560"/>
            <a:ext cx="5162400" cy="5160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Picture 34" descr="ephenixmockup.png"/>
          <p:cNvPicPr/>
          <p:nvPr/>
        </p:nvPicPr>
        <p:blipFill>
          <a:blip r:embed="rId3"/>
          <a:stretch/>
        </p:blipFill>
        <p:spPr>
          <a:xfrm>
            <a:off x="763560" y="817560"/>
            <a:ext cx="7553520" cy="55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Oval 39"/>
          <p:cNvSpPr/>
          <p:nvPr/>
        </p:nvSpPr>
        <p:spPr>
          <a:xfrm>
            <a:off x="2104920" y="1344600"/>
            <a:ext cx="4656240" cy="465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Footer Placeholder 3"/>
          <p:cNvSpPr/>
          <p:nvPr/>
        </p:nvSpPr>
        <p:spPr>
          <a:xfrm>
            <a:off x="8053560" y="67215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B3FA0-9E33-4084-B883-F41F73D10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1851120" y="1087560"/>
            <a:ext cx="5162400" cy="5160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6"/>
          <p:cNvSpPr/>
          <p:nvPr/>
        </p:nvSpPr>
        <p:spPr>
          <a:xfrm>
            <a:off x="2525760" y="1751040"/>
            <a:ext cx="3814560" cy="381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7"/>
          <p:cNvSpPr/>
          <p:nvPr/>
        </p:nvSpPr>
        <p:spPr>
          <a:xfrm>
            <a:off x="2936880" y="2190600"/>
            <a:ext cx="2963880" cy="2963880"/>
          </a:xfrm>
          <a:prstGeom prst="ellipse">
            <a:avLst/>
          </a:prstGeom>
          <a:solidFill>
            <a:srgbClr val="8eb4e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Dodecagon 9"/>
          <p:cNvSpPr/>
          <p:nvPr/>
        </p:nvSpPr>
        <p:spPr>
          <a:xfrm rot="20688000">
            <a:off x="3325320" y="2550600"/>
            <a:ext cx="2190960" cy="2233800"/>
          </a:xfrm>
          <a:custGeom>
            <a:avLst/>
            <a:gdLst/>
            <a:ahLst/>
            <a:rect l="l" t="t" r="r" b="b"/>
            <a:pathLst>
              <a:path w="2190598" h="2233706">
                <a:moveTo>
                  <a:pt x="0" y="817578"/>
                </a:moveTo>
                <a:lnTo>
                  <a:pt x="293500" y="299275"/>
                </a:lnTo>
                <a:lnTo>
                  <a:pt x="801799" y="0"/>
                </a:lnTo>
                <a:lnTo>
                  <a:pt x="1388799" y="0"/>
                </a:lnTo>
                <a:lnTo>
                  <a:pt x="1897098" y="299275"/>
                </a:lnTo>
                <a:lnTo>
                  <a:pt x="2190598" y="817578"/>
                </a:lnTo>
                <a:lnTo>
                  <a:pt x="2190598" y="1416128"/>
                </a:lnTo>
                <a:lnTo>
                  <a:pt x="1897098" y="1934431"/>
                </a:lnTo>
                <a:lnTo>
                  <a:pt x="1388799" y="2233706"/>
                </a:lnTo>
                <a:lnTo>
                  <a:pt x="801799" y="2233706"/>
                </a:lnTo>
                <a:lnTo>
                  <a:pt x="293500" y="1934431"/>
                </a:lnTo>
                <a:lnTo>
                  <a:pt x="0" y="1416128"/>
                </a:lnTo>
                <a:lnTo>
                  <a:pt x="0" y="81757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Dodecagon 10"/>
          <p:cNvSpPr/>
          <p:nvPr/>
        </p:nvSpPr>
        <p:spPr>
          <a:xfrm>
            <a:off x="4152960" y="3397320"/>
            <a:ext cx="538200" cy="538200"/>
          </a:xfrm>
          <a:custGeom>
            <a:avLst/>
            <a:gdLst/>
            <a:ahLst/>
            <a:rect l="l" t="t" r="r" b="b"/>
            <a:pathLst>
              <a:path w="536919" h="536879">
                <a:moveTo>
                  <a:pt x="0" y="196508"/>
                </a:moveTo>
                <a:lnTo>
                  <a:pt x="71937" y="71932"/>
                </a:lnTo>
                <a:lnTo>
                  <a:pt x="196522" y="0"/>
                </a:lnTo>
                <a:lnTo>
                  <a:pt x="340397" y="0"/>
                </a:lnTo>
                <a:lnTo>
                  <a:pt x="464982" y="71932"/>
                </a:lnTo>
                <a:lnTo>
                  <a:pt x="536919" y="196508"/>
                </a:lnTo>
                <a:lnTo>
                  <a:pt x="536919" y="340371"/>
                </a:lnTo>
                <a:lnTo>
                  <a:pt x="464982" y="464947"/>
                </a:lnTo>
                <a:lnTo>
                  <a:pt x="340397" y="536879"/>
                </a:lnTo>
                <a:lnTo>
                  <a:pt x="196522" y="536879"/>
                </a:lnTo>
                <a:lnTo>
                  <a:pt x="71937" y="464947"/>
                </a:lnTo>
                <a:lnTo>
                  <a:pt x="0" y="340371"/>
                </a:lnTo>
                <a:lnTo>
                  <a:pt x="0" y="19650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Dodecagon 11"/>
          <p:cNvSpPr/>
          <p:nvPr/>
        </p:nvSpPr>
        <p:spPr>
          <a:xfrm>
            <a:off x="4246560" y="3489480"/>
            <a:ext cx="353880" cy="353880"/>
          </a:xfrm>
          <a:custGeom>
            <a:avLst/>
            <a:gdLst/>
            <a:ahLst/>
            <a:rect l="l" t="t" r="r" b="b"/>
            <a:pathLst>
              <a:path w="354367" h="354340">
                <a:moveTo>
                  <a:pt x="0" y="129695"/>
                </a:moveTo>
                <a:lnTo>
                  <a:pt x="47479" y="47475"/>
                </a:lnTo>
                <a:lnTo>
                  <a:pt x="129705" y="0"/>
                </a:lnTo>
                <a:lnTo>
                  <a:pt x="224662" y="0"/>
                </a:lnTo>
                <a:lnTo>
                  <a:pt x="306888" y="47475"/>
                </a:lnTo>
                <a:lnTo>
                  <a:pt x="354367" y="129695"/>
                </a:lnTo>
                <a:lnTo>
                  <a:pt x="354367" y="224645"/>
                </a:lnTo>
                <a:lnTo>
                  <a:pt x="306888" y="306865"/>
                </a:lnTo>
                <a:lnTo>
                  <a:pt x="224662" y="354340"/>
                </a:lnTo>
                <a:lnTo>
                  <a:pt x="129705" y="354340"/>
                </a:lnTo>
                <a:lnTo>
                  <a:pt x="47479" y="306865"/>
                </a:lnTo>
                <a:lnTo>
                  <a:pt x="0" y="224645"/>
                </a:lnTo>
                <a:lnTo>
                  <a:pt x="0" y="129695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Dodecagon 12"/>
          <p:cNvSpPr/>
          <p:nvPr/>
        </p:nvSpPr>
        <p:spPr>
          <a:xfrm>
            <a:off x="4330800" y="3576600"/>
            <a:ext cx="177840" cy="176400"/>
          </a:xfrm>
          <a:custGeom>
            <a:avLst/>
            <a:gdLst/>
            <a:ahLst/>
            <a:rect l="l" t="t" r="r" b="b"/>
            <a:pathLst>
              <a:path w="177180" h="177170">
                <a:moveTo>
                  <a:pt x="0" y="64848"/>
                </a:moveTo>
                <a:lnTo>
                  <a:pt x="23739" y="23737"/>
                </a:lnTo>
                <a:lnTo>
                  <a:pt x="64851" y="0"/>
                </a:lnTo>
                <a:lnTo>
                  <a:pt x="112329" y="0"/>
                </a:lnTo>
                <a:lnTo>
                  <a:pt x="153441" y="23737"/>
                </a:lnTo>
                <a:lnTo>
                  <a:pt x="177180" y="64848"/>
                </a:lnTo>
                <a:lnTo>
                  <a:pt x="177180" y="112322"/>
                </a:lnTo>
                <a:lnTo>
                  <a:pt x="153441" y="153433"/>
                </a:lnTo>
                <a:lnTo>
                  <a:pt x="112329" y="177170"/>
                </a:lnTo>
                <a:lnTo>
                  <a:pt x="64851" y="177170"/>
                </a:lnTo>
                <a:lnTo>
                  <a:pt x="23739" y="153433"/>
                </a:lnTo>
                <a:lnTo>
                  <a:pt x="0" y="112322"/>
                </a:lnTo>
                <a:lnTo>
                  <a:pt x="0" y="6484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3"/>
          <p:cNvSpPr/>
          <p:nvPr/>
        </p:nvSpPr>
        <p:spPr>
          <a:xfrm>
            <a:off x="7514280" y="1230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[cm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traight Connector 15"/>
          <p:cNvSpPr/>
          <p:nvPr/>
        </p:nvSpPr>
        <p:spPr>
          <a:xfrm flipH="1">
            <a:off x="4431960" y="367200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traight Connector 17"/>
          <p:cNvSpPr/>
          <p:nvPr/>
        </p:nvSpPr>
        <p:spPr>
          <a:xfrm flipH="1">
            <a:off x="4431960" y="339264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traight Connector 18"/>
          <p:cNvSpPr/>
          <p:nvPr/>
        </p:nvSpPr>
        <p:spPr>
          <a:xfrm flipH="1">
            <a:off x="4431960" y="249228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19"/>
          <p:cNvSpPr/>
          <p:nvPr/>
        </p:nvSpPr>
        <p:spPr>
          <a:xfrm flipH="1">
            <a:off x="4431960" y="221292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20"/>
          <p:cNvSpPr/>
          <p:nvPr/>
        </p:nvSpPr>
        <p:spPr>
          <a:xfrm flipH="1">
            <a:off x="4446360" y="1736640"/>
            <a:ext cx="336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21"/>
          <p:cNvSpPr/>
          <p:nvPr/>
        </p:nvSpPr>
        <p:spPr>
          <a:xfrm>
            <a:off x="7721640" y="3178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22"/>
          <p:cNvSpPr/>
          <p:nvPr/>
        </p:nvSpPr>
        <p:spPr>
          <a:xfrm>
            <a:off x="7720920" y="3473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24"/>
          <p:cNvSpPr/>
          <p:nvPr/>
        </p:nvSpPr>
        <p:spPr>
          <a:xfrm>
            <a:off x="7733520" y="2284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25"/>
          <p:cNvSpPr/>
          <p:nvPr/>
        </p:nvSpPr>
        <p:spPr>
          <a:xfrm>
            <a:off x="7733520" y="201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26"/>
          <p:cNvSpPr/>
          <p:nvPr/>
        </p:nvSpPr>
        <p:spPr>
          <a:xfrm>
            <a:off x="7750440" y="1517760"/>
            <a:ext cx="10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(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traight Connector 33"/>
          <p:cNvSpPr/>
          <p:nvPr/>
        </p:nvSpPr>
        <p:spPr>
          <a:xfrm flipH="1">
            <a:off x="4431960" y="108756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38"/>
          <p:cNvSpPr/>
          <p:nvPr/>
        </p:nvSpPr>
        <p:spPr>
          <a:xfrm>
            <a:off x="1102320" y="1370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Calibri"/>
              </a:rPr>
              <a:t>EM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2" name="Curved Connector 40"/>
          <p:cNvCxnSpPr/>
          <p:nvPr/>
        </p:nvCxnSpPr>
        <p:spPr>
          <a:xfrm>
            <a:off x="2043000" y="1623600"/>
            <a:ext cx="1463040" cy="7405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3" name="TextBox 44"/>
          <p:cNvSpPr/>
          <p:nvPr/>
        </p:nvSpPr>
        <p:spPr>
          <a:xfrm>
            <a:off x="1194840" y="2130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4" name="Curved Connector 45"/>
          <p:cNvCxnSpPr/>
          <p:nvPr/>
        </p:nvCxnSpPr>
        <p:spPr>
          <a:xfrm>
            <a:off x="1793520" y="2386080"/>
            <a:ext cx="1462680" cy="7387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5" name="TextBox 46"/>
          <p:cNvSpPr/>
          <p:nvPr/>
        </p:nvSpPr>
        <p:spPr>
          <a:xfrm>
            <a:off x="1269360" y="5288040"/>
            <a:ext cx="11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I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6" name="Curved Connector 47"/>
          <p:cNvCxnSpPr/>
          <p:nvPr/>
        </p:nvCxnSpPr>
        <p:spPr>
          <a:xfrm flipV="1">
            <a:off x="2070000" y="3830040"/>
            <a:ext cx="2083680" cy="18658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7" name="Curved Connector 49"/>
          <p:cNvCxnSpPr/>
          <p:nvPr/>
        </p:nvCxnSpPr>
        <p:spPr>
          <a:xfrm rot="10800000">
            <a:off x="5476320" y="3982320"/>
            <a:ext cx="1888200" cy="550080"/>
          </a:xfrm>
          <a:prstGeom prst="curvedConnector5">
            <a:avLst>
              <a:gd name="adj1" fmla="val 50000"/>
              <a:gd name="adj2" fmla="val 49967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8" name="TextBox 52"/>
          <p:cNvSpPr/>
          <p:nvPr/>
        </p:nvSpPr>
        <p:spPr>
          <a:xfrm>
            <a:off x="7347960" y="40543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u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Curved Connector 54"/>
          <p:cNvCxnSpPr/>
          <p:nvPr/>
        </p:nvCxnSpPr>
        <p:spPr>
          <a:xfrm rot="10800000">
            <a:off x="4664880" y="4257720"/>
            <a:ext cx="2348640" cy="1311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0" name="TextBox 56"/>
          <p:cNvSpPr/>
          <p:nvPr/>
        </p:nvSpPr>
        <p:spPr>
          <a:xfrm>
            <a:off x="6938640" y="497052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"/>
          <p:cNvSpPr/>
          <p:nvPr/>
        </p:nvSpPr>
        <p:spPr>
          <a:xfrm>
            <a:off x="7733160" y="8794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(old i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2" name="Curved Connector 41"/>
          <p:cNvCxnSpPr/>
          <p:nvPr/>
        </p:nvCxnSpPr>
        <p:spPr>
          <a:xfrm>
            <a:off x="2133360" y="1074240"/>
            <a:ext cx="1462680" cy="73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3" name="TextBox 42"/>
          <p:cNvSpPr/>
          <p:nvPr/>
        </p:nvSpPr>
        <p:spPr>
          <a:xfrm>
            <a:off x="972720" y="843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Left-Right Arrow 14"/>
          <p:cNvSpPr/>
          <p:nvPr/>
        </p:nvSpPr>
        <p:spPr>
          <a:xfrm>
            <a:off x="1851120" y="3556080"/>
            <a:ext cx="674640" cy="196920"/>
          </a:xfrm>
          <a:prstGeom prst="leftRightArrow">
            <a:avLst>
              <a:gd name="adj1" fmla="val 50000"/>
              <a:gd name="adj2" fmla="val 50136"/>
            </a:avLst>
          </a:prstGeom>
          <a:solidFill>
            <a:srgbClr val="25ec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7"/>
          <p:cNvSpPr/>
          <p:nvPr/>
        </p:nvSpPr>
        <p:spPr>
          <a:xfrm>
            <a:off x="442800" y="3327480"/>
            <a:ext cx="1025640" cy="642600"/>
          </a:xfrm>
          <a:prstGeom prst="rect">
            <a:avLst/>
          </a:prstGeom>
          <a:solidFill>
            <a:srgbClr val="25e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d by 3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163160"/>
            <a:ext cx="822960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understanding both the transverse and helicity structure of the proton, ePHENIX needs PID capa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high momentum hadrons go into central barr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hadron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Kinematics, want PID up to 4 G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moderate loss of reach at high x and Q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get PID p≈&lt;3.5-4 GeV with a DI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-10 cm space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EMCal inside magnet, 90cm magnet could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understand impact of EMCal outside vs inside mag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y by Yakov Kulinich (SBU) underwa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B6265-6227-4CFA-AE76-9B72E0A2F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Picture 5" descr="kin.png"/>
          <p:cNvPicPr/>
          <p:nvPr/>
        </p:nvPicPr>
        <p:blipFill>
          <a:blip r:embed="rId1"/>
          <a:stretch/>
        </p:blipFill>
        <p:spPr>
          <a:xfrm>
            <a:off x="3147840" y="2771640"/>
            <a:ext cx="2057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licity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49050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ly, only information on sea quarks is from SID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to low Q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HIC W program will give info o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ū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46E22-C7B4-4B14-A932-41E7BDF57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1509840" y="727200"/>
                <a:ext cx="6146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91" name="Group 18"/>
          <p:cNvGrpSpPr/>
          <p:nvPr/>
        </p:nvGrpSpPr>
        <p:grpSpPr>
          <a:xfrm>
            <a:off x="401760" y="982800"/>
            <a:ext cx="4181400" cy="3922560"/>
            <a:chOff x="401760" y="982800"/>
            <a:chExt cx="4181400" cy="3922560"/>
          </a:xfrm>
        </p:grpSpPr>
        <mc:AlternateContent>
          <mc:Choice xmlns:a14="http://schemas.microsoft.com/office/drawing/2010/main" Requires="a14">
            <p:sp>
              <p:nvSpPr>
                <p:cNvPr id="592" name="Object 7"/>
                <p:cNvSpPr txBox="1"/>
                <p:nvPr/>
              </p:nvSpPr>
              <p:spPr>
                <a:xfrm>
                  <a:off x="442080" y="2254320"/>
                  <a:ext cx="3145680" cy="15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Δ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sub>
                            <m:sup/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r>
                                    <m:t xml:space="preserve">Δq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</m:e>
                        <m:e>
                          <m:sSup>
                            <m:e/>
                            <m:sup/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sub>
                            <m:sup/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p>
                                          <m:r>
                                            <m:t xml:space="preserve">+</m:t>
                                          </m:r>
                                        </m:sup>
                                      </m:sSup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</m:sup>
                                      </m:sSup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TextBox 8"/>
            <p:cNvSpPr/>
            <p:nvPr/>
          </p:nvSpPr>
          <p:spPr>
            <a:xfrm>
              <a:off x="434880" y="3769200"/>
              <a:ext cx="3230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From polarized DIS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is well measured.  Global fits find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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Symbol"/>
                </a:rPr>
                <a:t>0.25-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3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Rectangle 9"/>
            <p:cNvSpPr/>
            <p:nvPr/>
          </p:nvSpPr>
          <p:spPr>
            <a:xfrm>
              <a:off x="401760" y="2287800"/>
              <a:ext cx="3219480" cy="2617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3821760" y="982800"/>
              <a:ext cx="761400" cy="6793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6" name="Straight Arrow Connector 11"/>
            <p:cNvCxnSpPr>
              <a:stCxn id="595" idx="4"/>
            </p:cNvCxnSpPr>
            <p:nvPr/>
          </p:nvCxnSpPr>
          <p:spPr>
            <a:xfrm flipH="1">
              <a:off x="3367440" y="1661760"/>
              <a:ext cx="834840" cy="6447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597" name="Group 12"/>
          <p:cNvGrpSpPr/>
          <p:nvPr/>
        </p:nvGrpSpPr>
        <p:grpSpPr>
          <a:xfrm>
            <a:off x="3621240" y="2284560"/>
            <a:ext cx="5246640" cy="2620800"/>
            <a:chOff x="3621240" y="2284560"/>
            <a:chExt cx="5246640" cy="2620800"/>
          </a:xfrm>
        </p:grpSpPr>
        <p:sp>
          <p:nvSpPr>
            <p:cNvPr id="598" name="Rectangle 13"/>
            <p:cNvSpPr/>
            <p:nvPr/>
          </p:nvSpPr>
          <p:spPr>
            <a:xfrm>
              <a:off x="3621240" y="2284560"/>
              <a:ext cx="5202360" cy="2620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Box 14"/>
            <p:cNvSpPr/>
            <p:nvPr/>
          </p:nvSpPr>
          <p:spPr>
            <a:xfrm>
              <a:off x="3632040" y="2306520"/>
              <a:ext cx="523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hil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is well constrainted from pDIS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 for the different quarks are less well know, especially in the case of sea quarks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0" name="Picture 15" descr="seaquarkdssvplot.png"/>
            <p:cNvPicPr/>
            <p:nvPr/>
          </p:nvPicPr>
          <p:blipFill>
            <a:blip r:embed="rId1"/>
            <a:stretch/>
          </p:blipFill>
          <p:spPr>
            <a:xfrm>
              <a:off x="3821760" y="3306960"/>
              <a:ext cx="4527000" cy="154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Flavor Separated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ain approaches in D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e+p to e+n (deuteron or He3 tar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+p) – (e+n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s information in valence quark region, bu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for sea qua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weak exchange:  Z or 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gging of W exchange, similar to RHIC p+p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+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 different structure function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nucle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quires high luminosity and also large √s (beyond ePHEN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 Inclusive DIS (SIDIS):  </a:t>
            </a:r>
            <a:r>
              <a:rPr b="0" lang="en-US" sz="2400" spc="-1" strike="noStrike">
                <a:solidFill>
                  <a:srgbClr val="000000"/>
                </a:solidFill>
                <a:latin typeface="Brush Script MT Italic"/>
                <a:ea typeface="Brush Script MT Ital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 Italic"/>
                <a:ea typeface="Brush Script MT Ital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Brush Script MT Italic"/>
              </a:rPr>
              <a:t>+h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g final state identified had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favored and unfavored Fragmentation Functions, can extract flavor separated sea quark helicity distrib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PID to identify Kaons in order to g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456D7-B06D-479C-A4A9-3FA190C8F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884160" y="4173480"/>
            <a:ext cx="7212240" cy="1919520"/>
          </a:xfrm>
          <a:prstGeom prst="rect">
            <a:avLst/>
          </a:prstGeom>
          <a:noFill/>
          <a:ln w="76320">
            <a:solidFill>
              <a:srgbClr val="25ec3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SIDIS 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4DCAB-BC04-466A-8BD2-639B711CD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5" descr="SIDIShelicityAsym.png"/>
          <p:cNvPicPr/>
          <p:nvPr/>
        </p:nvPicPr>
        <p:blipFill>
          <a:blip r:embed="rId1"/>
          <a:stretch/>
        </p:blipFill>
        <p:spPr>
          <a:xfrm>
            <a:off x="233280" y="1246320"/>
            <a:ext cx="4589640" cy="2493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seaquarkdssvplot.png"/>
          <p:cNvPicPr/>
          <p:nvPr/>
        </p:nvPicPr>
        <p:blipFill>
          <a:blip r:embed="rId2"/>
          <a:stretch/>
        </p:blipFill>
        <p:spPr>
          <a:xfrm>
            <a:off x="2063880" y="4692600"/>
            <a:ext cx="4529160" cy="1541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meatgrinder.jpg"/>
          <p:cNvPicPr/>
          <p:nvPr/>
        </p:nvPicPr>
        <p:blipFill>
          <a:blip r:embed="rId3"/>
          <a:stretch/>
        </p:blipFill>
        <p:spPr>
          <a:xfrm>
            <a:off x="104760" y="397368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612" name="Down Arrow 11"/>
          <p:cNvSpPr/>
          <p:nvPr/>
        </p:nvSpPr>
        <p:spPr>
          <a:xfrm rot="16200000">
            <a:off x="1650240" y="5137560"/>
            <a:ext cx="571320" cy="484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Notched Right Arrow 12"/>
          <p:cNvSpPr/>
          <p:nvPr/>
        </p:nvSpPr>
        <p:spPr>
          <a:xfrm rot="6349800">
            <a:off x="757080" y="3176280"/>
            <a:ext cx="955800" cy="781200"/>
          </a:xfrm>
          <a:custGeom>
            <a:avLst/>
            <a:gdLst>
              <a:gd name="textAreaLeft" fmla="*/ 195120 w 955800"/>
              <a:gd name="textAreaRight" fmla="*/ 760680 w 95580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985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15" descr="seaquarkdssvplot.png"/>
          <p:cNvPicPr/>
          <p:nvPr/>
        </p:nvPicPr>
        <p:blipFill>
          <a:blip r:embed="rId4"/>
          <a:srcRect l="67879" t="0" r="0" b="0"/>
          <a:stretch/>
        </p:blipFill>
        <p:spPr>
          <a:xfrm>
            <a:off x="2435400" y="3784680"/>
            <a:ext cx="2388960" cy="2530440"/>
          </a:xfrm>
          <a:prstGeom prst="rect">
            <a:avLst/>
          </a:prstGeom>
          <a:ln w="0">
            <a:noFill/>
          </a:ln>
        </p:spPr>
      </p:pic>
      <p:sp>
        <p:nvSpPr>
          <p:cNvPr id="615" name="Oval 13"/>
          <p:cNvSpPr/>
          <p:nvPr/>
        </p:nvSpPr>
        <p:spPr>
          <a:xfrm>
            <a:off x="2438280" y="4287960"/>
            <a:ext cx="824040" cy="1377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28760" y="961560"/>
            <a:ext cx="386892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SIDIS measurements from HERMES and COMPA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mited x and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amount of uncertainty rema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SIDIS data unique access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certainty at low x is larger than sh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 constraint forces small uncertainty at low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understand at ePHEN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rved Right Arrow 6"/>
          <p:cNvSpPr/>
          <p:nvPr/>
        </p:nvSpPr>
        <p:spPr>
          <a:xfrm rot="10800000">
            <a:off x="4354200" y="4692240"/>
            <a:ext cx="306360" cy="477720"/>
          </a:xfrm>
          <a:custGeom>
            <a:avLst/>
            <a:gdLst>
              <a:gd name="textAreaLeft" fmla="*/ 41040 w 306360"/>
              <a:gd name="textAreaRight" fmla="*/ 265320 w 306360"/>
              <a:gd name="textAreaTop" fmla="*/ 91800 h 477720"/>
              <a:gd name="textAreaBottom" fmla="*/ 342720 h 47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9" stAng="-5400000" swAng="-5400000"/>
                <a:lnTo>
                  <a:pt x="0" y="11330"/>
                </a:lnTo>
                <a:arcTo wR="21600" hR="8319" stAng="10800000" swAng="-2073159"/>
                <a:lnTo>
                  <a:pt x="11057" y="20542"/>
                </a:lnTo>
                <a:lnTo>
                  <a:pt x="21600" y="18143"/>
                </a:lnTo>
                <a:lnTo>
                  <a:pt x="11057" y="13627"/>
                </a:lnTo>
                <a:lnTo>
                  <a:pt x="11057" y="15579"/>
                </a:lnTo>
                <a:arcTo wR="21600" hR="8319" stAng="8726841" swAng="1829935"/>
                <a:lnTo>
                  <a:pt x="357" y="9824"/>
                </a:lnTo>
                <a:arcTo wR="21600" hR="8319" stAng="-10556776" swAng="5156776"/>
                <a:close/>
              </a:path>
              <a:path fill="darkenLess" w="21600" h="21600">
                <a:moveTo>
                  <a:pt x="21600" y="0"/>
                </a:moveTo>
                <a:arcTo wR="21600" hR="8319" stAng="-5400000" swAng="-5400000"/>
                <a:lnTo>
                  <a:pt x="0" y="8319"/>
                </a:lnTo>
                <a:arcTo wR="21600" hR="8319" stAng="10800000" swAng="-243224"/>
                <a:lnTo>
                  <a:pt x="357" y="9824"/>
                </a:lnTo>
                <a:arcTo wR="21600" hR="8319" stAng="-10556776" swAng="5156776"/>
                <a:close/>
              </a:path>
            </a:pathLst>
          </a:custGeom>
          <a:solidFill>
            <a:srgbClr val="25ec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ransverse Spi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163160"/>
            <a:ext cx="24782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erse momentum distributions (TMDs) require final state hadron (SID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PID to understand quark separated 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large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moderate x to look at scaling of TM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88328-0483-4D03-A225-25DA5968E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4" descr="siversdata.png"/>
          <p:cNvPicPr/>
          <p:nvPr/>
        </p:nvPicPr>
        <p:blipFill>
          <a:blip r:embed="rId1"/>
          <a:stretch/>
        </p:blipFill>
        <p:spPr>
          <a:xfrm>
            <a:off x="3611520" y="1700280"/>
            <a:ext cx="4433760" cy="3459240"/>
          </a:xfrm>
          <a:prstGeom prst="rect">
            <a:avLst/>
          </a:prstGeom>
          <a:ln w="0">
            <a:noFill/>
          </a:ln>
        </p:spPr>
      </p:pic>
      <p:sp>
        <p:nvSpPr>
          <p:cNvPr id="622" name="Footer Placeholder 5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300816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5D16E-DAA8-4971-A27A-1BA87F6DB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riables of inter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ordinate syste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ymbol"/>
              </a:rPr>
              <a:t>= 0 is proton going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2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(1 – co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mentum transf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= √(4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 =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(2P•q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ction momentum of proton carried by struck qua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 = P•p/P•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ction momentum of struck quark carried by hadr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er of mas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√s/2, 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√s/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√s/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√s/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~√s/2 * √x * z = z*√(x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8130A-2A81-4DA0-B8FE-084463BB3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ight Arrow 5"/>
          <p:cNvSpPr/>
          <p:nvPr/>
        </p:nvSpPr>
        <p:spPr>
          <a:xfrm>
            <a:off x="6553080" y="1887480"/>
            <a:ext cx="827280" cy="147600"/>
          </a:xfrm>
          <a:prstGeom prst="rightArrow">
            <a:avLst>
              <a:gd name="adj1" fmla="val 50000"/>
              <a:gd name="adj2" fmla="val 498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ight Arrow 6"/>
          <p:cNvSpPr/>
          <p:nvPr/>
        </p:nvSpPr>
        <p:spPr>
          <a:xfrm flipH="1">
            <a:off x="7465320" y="1887480"/>
            <a:ext cx="826920" cy="147600"/>
          </a:xfrm>
          <a:prstGeom prst="right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ight Arrow 7"/>
          <p:cNvSpPr/>
          <p:nvPr/>
        </p:nvSpPr>
        <p:spPr>
          <a:xfrm flipH="1" rot="7571400">
            <a:off x="7246800" y="1457640"/>
            <a:ext cx="828720" cy="147960"/>
          </a:xfrm>
          <a:prstGeom prst="rightArrow">
            <a:avLst>
              <a:gd name="adj1" fmla="val 50000"/>
              <a:gd name="adj2" fmla="val 4986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217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8"/>
          <p:cNvSpPr/>
          <p:nvPr/>
        </p:nvSpPr>
        <p:spPr>
          <a:xfrm>
            <a:off x="6212520" y="17542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8295480" y="1743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7860960" y="917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7557480" y="267804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ymbol"/>
              </a:rPr>
              <a:t>, K, 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ight Arrow 14"/>
          <p:cNvSpPr/>
          <p:nvPr/>
        </p:nvSpPr>
        <p:spPr>
          <a:xfrm flipH="1" rot="15712200">
            <a:off x="7067160" y="2356200"/>
            <a:ext cx="827280" cy="146160"/>
          </a:xfrm>
          <a:prstGeom prst="rightArrow">
            <a:avLst>
              <a:gd name="adj1" fmla="val 50000"/>
              <a:gd name="adj2" fmla="val 5039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31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rc 16"/>
          <p:cNvSpPr/>
          <p:nvPr/>
        </p:nvSpPr>
        <p:spPr>
          <a:xfrm flipH="1">
            <a:off x="6860520" y="1403280"/>
            <a:ext cx="895320" cy="966960"/>
          </a:xfrm>
          <a:custGeom>
            <a:avLst/>
            <a:gdLst/>
            <a:ahLst/>
            <a:rect l="l" t="t" r="r" b="b"/>
            <a:pathLst>
              <a:path stroke="0" w="895831" h="967516">
                <a:moveTo>
                  <a:pt x="160985" y="112289"/>
                </a:moveTo>
                <a:cubicBezTo>
                  <a:pt x="300711" y="-13602"/>
                  <a:pt x="497068" y="-35689"/>
                  <a:pt x="657815" y="56404"/>
                </a:cubicBezTo>
                <a:cubicBezTo>
                  <a:pt x="804266" y="140307"/>
                  <a:pt x="895833" y="304712"/>
                  <a:pt x="895833" y="483758"/>
                </a:cubicBezTo>
                <a:lnTo>
                  <a:pt x="447916" y="483758"/>
                </a:lnTo>
                <a:lnTo>
                  <a:pt x="160985" y="112289"/>
                </a:lnTo>
                <a:close/>
              </a:path>
              <a:path fill="none" w="895831" h="967516">
                <a:moveTo>
                  <a:pt x="160985" y="112289"/>
                </a:moveTo>
                <a:cubicBezTo>
                  <a:pt x="300711" y="-13602"/>
                  <a:pt x="497068" y="-35689"/>
                  <a:pt x="657815" y="56404"/>
                </a:cubicBezTo>
                <a:cubicBezTo>
                  <a:pt x="804266" y="140307"/>
                  <a:pt x="895833" y="304712"/>
                  <a:pt x="895833" y="483758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7"/>
          <p:cNvSpPr/>
          <p:nvPr/>
        </p:nvSpPr>
        <p:spPr>
          <a:xfrm>
            <a:off x="6861240" y="1123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mom_vs_eta.png"/>
          <p:cNvPicPr/>
          <p:nvPr/>
        </p:nvPicPr>
        <p:blipFill>
          <a:blip r:embed="rId1"/>
          <a:stretch/>
        </p:blipFill>
        <p:spPr>
          <a:xfrm>
            <a:off x="1217520" y="955800"/>
            <a:ext cx="6943680" cy="49701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mentum vs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18920" y="3476520"/>
            <a:ext cx="3654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st momentum particles go in the hadron beam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ss true at 10 GeV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, many hadrons end up in midrapidity region (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&lt;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many, and at what moment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3D182-5C26-4F49-8501-E537C95CC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6"/>
          <p:cNvSpPr/>
          <p:nvPr/>
        </p:nvSpPr>
        <p:spPr>
          <a:xfrm>
            <a:off x="8161200" y="4205160"/>
            <a:ext cx="8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led up by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7"/>
          <p:cNvSpPr/>
          <p:nvPr/>
        </p:nvSpPr>
        <p:spPr>
          <a:xfrm rot="16200000">
            <a:off x="838440" y="1359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8"/>
          <p:cNvSpPr/>
          <p:nvPr/>
        </p:nvSpPr>
        <p:spPr>
          <a:xfrm>
            <a:off x="7470360" y="573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9"/>
          <p:cNvSpPr/>
          <p:nvPr/>
        </p:nvSpPr>
        <p:spPr>
          <a:xfrm>
            <a:off x="7470360" y="313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4063680" y="313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21"/>
          <p:cNvSpPr/>
          <p:nvPr/>
        </p:nvSpPr>
        <p:spPr>
          <a:xfrm rot="16200000">
            <a:off x="4300920" y="1359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22"/>
          <p:cNvSpPr/>
          <p:nvPr/>
        </p:nvSpPr>
        <p:spPr>
          <a:xfrm rot="16200000">
            <a:off x="4300920" y="3840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2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9:29:32Z</dcterms:created>
  <dc:creator>Kieran Boyle</dc:creator>
  <dc:description/>
  <dc:language>en-US</dc:language>
  <cp:lastModifiedBy>Thomas K Hemmick</cp:lastModifiedBy>
  <dcterms:modified xsi:type="dcterms:W3CDTF">2012-03-14T13:55:52Z</dcterms:modified>
  <cp:revision>106</cp:revision>
  <dc:subject/>
  <dc:title>Spin with sPHENIX</dc:title>
</cp:coreProperties>
</file>